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400-F5AF-4751-AC0F-DE42EB20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A927-3ED2-42E5-B564-827D3FCA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14E-0291-4260-967A-535157D1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F03-5A87-43D5-97C2-5EA5DAF0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A2AB-F682-4A43-9DC7-B6492B41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2C6C-893F-4ACE-A45B-01221FE2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E8BD-CD9F-4CF3-BBA4-C1D61C79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38B-4910-41A0-AFCC-6117DE34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9CE1-FDDF-46CD-AA34-A7AC7C47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30EC-4D4E-47D9-86B3-9412AD93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F35B-73FD-40BD-81FE-9F04405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E49-BD31-4034-A619-A5545E7E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8274-88E7-4860-8CC9-62A9C780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6ADA-69FB-4D46-8580-2689BAB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26F0-6F9A-4F87-8E12-0E40F24F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6AB7-317C-4A26-9044-6FC800E8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D947-7CF7-4A17-992C-9949F5F4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C573-0FA4-4D6C-8963-E1489AE5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FAEA-58BF-425C-9671-4CEBDAAB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102-47DE-4F91-BE5B-67B2D9E9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FB3-8A55-486B-A39E-C2BC1303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484-DBE5-432B-95F9-80E17FEB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121-47DA-42CA-AE59-604245DC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1BC-0DCF-4C2F-8390-03ED2BE8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B125-F871-45D9-81BC-25475AC5F2EC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8099-0213-454E-B250-50AD5005386D}" type="slidenum">
              <a:rPr b="0" lang="en-US" sz="1400" spc="-1" strike="noStrike">
                <a:solidFill>
                  <a:srgbClr val="003300"/>
                </a:solidFill>
                <a:latin typeface="Times New Roman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4724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5257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5791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6324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244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1488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6252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6252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99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238752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19920" y="401328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9920" y="56386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76212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48120" y="238752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401328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8120" y="563868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76212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238752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48120" y="401328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8120" y="563868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187956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" y="353052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51814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48120" y="76212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238752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8120" y="4013280"/>
            <a:ext cx="54864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5638680"/>
            <a:ext cx="54864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2096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958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1828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280" y="24764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133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290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72428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99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152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52280" y="4114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4724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99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152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1337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4290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99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152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6324480"/>
            <a:ext cx="8305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096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053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3915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2096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5053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8006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8600" y="1828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2280" y="24764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290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72428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99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152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133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2428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199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152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2280" y="4114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2280" y="4724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290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2428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152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290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72428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0199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6324480"/>
            <a:ext cx="8305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4724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5257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5791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6324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4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488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2096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5053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80060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91520" y="380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2096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053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588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39152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1828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24764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337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290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315200" y="26668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337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290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1992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315200" y="3200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4114800"/>
            <a:ext cx="830592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52280" y="4724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337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72428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48769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337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2428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315200" y="54100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52280" y="6324480"/>
            <a:ext cx="830592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52280" y="22860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98108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28464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587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8928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19604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31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369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4016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543720" y="68580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848720" y="68580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8600" y="182880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280" y="23623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98108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8464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87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8928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19604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631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9369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24016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543720" y="2819520"/>
            <a:ext cx="533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848720" y="2819520"/>
            <a:ext cx="5331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" y="3962520"/>
            <a:ext cx="29718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52280" y="44956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8108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28464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587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8928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719604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631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9369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4016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543720" y="4952880"/>
            <a:ext cx="533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848720" y="4952880"/>
            <a:ext cx="5331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28600" y="6095880"/>
            <a:ext cx="29718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2280" y="152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5740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228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019920" y="2286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57400" y="914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581280" y="9144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715000" y="9144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5438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52280" y="18032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5740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24280" y="1828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019920" y="18288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25146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5146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715000" y="25146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543800" y="2514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52280" y="345456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0574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724280" y="3429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019920" y="34290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57400" y="41148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1148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715000" y="41148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543800" y="4114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52280" y="51055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0574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724280" y="51814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9920" y="5181480"/>
            <a:ext cx="23619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057400" y="58672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867280"/>
            <a:ext cx="20574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15000" y="5867280"/>
            <a:ext cx="1676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543800" y="5867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52280" y="152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05740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724280" y="228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2286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057400" y="914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581280" y="9144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715000" y="9144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5438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52280" y="18032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05740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724280" y="1828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019920" y="18288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057400" y="25146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581280" y="25146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25146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43800" y="2514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2280" y="345456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724280" y="3429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019920" y="34290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057400" y="41148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581280" y="41148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715000" y="41148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543800" y="4114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52280" y="51055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574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724280" y="51814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19920" y="5181480"/>
            <a:ext cx="23619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057400" y="58672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581280" y="5867280"/>
            <a:ext cx="20574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15000" y="5867280"/>
            <a:ext cx="1676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5867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52280" y="15228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5740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724280" y="228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019920" y="2286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57400" y="9144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81280" y="9144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715000" y="9144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543800" y="9144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52280" y="1803240"/>
            <a:ext cx="16002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05740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724280" y="1828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19920" y="18288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57400" y="25146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581280" y="25146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15000" y="25146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43800" y="25146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52280" y="345456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0574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24280" y="34290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19920" y="3429000"/>
            <a:ext cx="236196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057400" y="4114800"/>
            <a:ext cx="14479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581280" y="4114800"/>
            <a:ext cx="20574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15000" y="4114800"/>
            <a:ext cx="167652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543800" y="411480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2280" y="5105520"/>
            <a:ext cx="1600200" cy="1447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574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724280" y="51814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236196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57400" y="5867280"/>
            <a:ext cx="14479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581280" y="5867280"/>
            <a:ext cx="20574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715000" y="5867280"/>
            <a:ext cx="167652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5867280"/>
            <a:ext cx="11430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4724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5257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5791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6324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429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3962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1488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819520" y="228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819520" y="762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819520" y="12952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19520" y="18288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81952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81952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1952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81952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28600" y="464832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791320" y="3049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8380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791320" y="13716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91320" y="19051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5715000" y="4648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15000" y="5181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150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934320" y="3808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52280" y="152280"/>
            <a:ext cx="4800600" cy="655344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6553440"/>
              <a:gd name="textAreaBottom" fmla="*/ 6319080 h 6553440"/>
            </a:gdLst>
            <a:ahLst/>
            <a:rect l="textAreaLeft" t="textAreaTop" r="textAreaRight" b="textAreaBottom"/>
            <a:pathLst>
              <a:path w="21600" h="29486">
                <a:moveTo>
                  <a:pt x="3600" y="0"/>
                </a:moveTo>
                <a:arcTo wR="3600" hR="3600" stAng="16200000" swAng="-5400000"/>
                <a:lnTo>
                  <a:pt x="0" y="25886"/>
                </a:lnTo>
                <a:arcTo wR="3600" hR="3600" stAng="10800000" swAng="-5400000"/>
                <a:lnTo>
                  <a:pt x="18000" y="29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410080" y="3049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0102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486400" y="53341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867280" y="16765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867280" y="227016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867280" y="286380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867280" y="345924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867280" y="405288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867280" y="46483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105520" y="152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181480" y="16765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5181480" y="22860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181480" y="28954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5181480" y="35053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181480" y="4114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181480" y="4724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181480" y="53341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934320" y="3808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52280" y="152280"/>
            <a:ext cx="4800600" cy="6553440"/>
          </a:xfrm>
          <a:custGeom>
            <a:avLst/>
            <a:gdLst>
              <a:gd name="textAreaLeft" fmla="*/ 234360 w 4800600"/>
              <a:gd name="textAreaRight" fmla="*/ 4566240 w 4800600"/>
              <a:gd name="textAreaTop" fmla="*/ 234360 h 6553440"/>
              <a:gd name="textAreaBottom" fmla="*/ 6319080 h 6553440"/>
            </a:gdLst>
            <a:ahLst/>
            <a:rect l="textAreaLeft" t="textAreaTop" r="textAreaRight" b="textAreaBottom"/>
            <a:pathLst>
              <a:path w="21600" h="29486">
                <a:moveTo>
                  <a:pt x="3600" y="0"/>
                </a:moveTo>
                <a:arcTo wR="3600" hR="3600" stAng="16200000" swAng="-5400000"/>
                <a:lnTo>
                  <a:pt x="0" y="25886"/>
                </a:lnTo>
                <a:arcTo wR="3600" hR="3600" stAng="10800000" swAng="-5400000"/>
                <a:lnTo>
                  <a:pt x="18000" y="294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410080" y="3049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70102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486400" y="53341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867280" y="16765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867280" y="227016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867280" y="286380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867280" y="345924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867280" y="405288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867280" y="4648320"/>
            <a:ext cx="3124440" cy="45720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105520" y="152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181480" y="16765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22860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81480" y="28954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181480" y="35053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81480" y="411480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4724280"/>
            <a:ext cx="457200" cy="381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5334120"/>
            <a:ext cx="457200" cy="3808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8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85800" y="304920"/>
            <a:ext cx="3429000" cy="2057400"/>
            <a:chOff x="685800" y="304920"/>
            <a:chExt cx="3429000" cy="2057400"/>
          </a:xfrm>
        </p:grpSpPr>
        <p:sp>
          <p:nvSpPr>
            <p:cNvPr id="149" name=""/>
            <p:cNvSpPr/>
            <p:nvPr/>
          </p:nvSpPr>
          <p:spPr>
            <a:xfrm>
              <a:off x="1143000" y="19810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952880" y="304920"/>
            <a:ext cx="3429000" cy="2057400"/>
            <a:chOff x="4952880" y="304920"/>
            <a:chExt cx="3429000" cy="2057400"/>
          </a:xfrm>
        </p:grpSpPr>
        <p:sp>
          <p:nvSpPr>
            <p:cNvPr id="153" name=""/>
            <p:cNvSpPr/>
            <p:nvPr/>
          </p:nvSpPr>
          <p:spPr>
            <a:xfrm>
              <a:off x="5410080" y="198144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16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528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952880" y="3962520"/>
            <a:ext cx="3429000" cy="2057400"/>
            <a:chOff x="4952880" y="3962520"/>
            <a:chExt cx="3429000" cy="2057400"/>
          </a:xfrm>
        </p:grpSpPr>
        <p:sp>
          <p:nvSpPr>
            <p:cNvPr id="157" name=""/>
            <p:cNvSpPr/>
            <p:nvPr/>
          </p:nvSpPr>
          <p:spPr>
            <a:xfrm>
              <a:off x="541008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816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528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85800" y="3962520"/>
            <a:ext cx="3429000" cy="2057400"/>
            <a:chOff x="685800" y="3962520"/>
            <a:chExt cx="3429000" cy="2057400"/>
          </a:xfrm>
        </p:grpSpPr>
        <p:sp>
          <p:nvSpPr>
            <p:cNvPr id="161" name=""/>
            <p:cNvSpPr/>
            <p:nvPr/>
          </p:nvSpPr>
          <p:spPr>
            <a:xfrm>
              <a:off x="114300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46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58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5800" y="304920"/>
            <a:ext cx="3429000" cy="2057400"/>
            <a:chOff x="685800" y="304920"/>
            <a:chExt cx="3429000" cy="2057400"/>
          </a:xfrm>
        </p:grpSpPr>
        <p:sp>
          <p:nvSpPr>
            <p:cNvPr id="166" name=""/>
            <p:cNvSpPr/>
            <p:nvPr/>
          </p:nvSpPr>
          <p:spPr>
            <a:xfrm>
              <a:off x="1143000" y="19810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46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952880" y="304920"/>
            <a:ext cx="3429000" cy="2057400"/>
            <a:chOff x="4952880" y="304920"/>
            <a:chExt cx="3429000" cy="2057400"/>
          </a:xfrm>
        </p:grpSpPr>
        <p:sp>
          <p:nvSpPr>
            <p:cNvPr id="170" name=""/>
            <p:cNvSpPr/>
            <p:nvPr/>
          </p:nvSpPr>
          <p:spPr>
            <a:xfrm>
              <a:off x="5410080" y="198144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816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28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952880" y="3962520"/>
            <a:ext cx="3429000" cy="2057400"/>
            <a:chOff x="4952880" y="3962520"/>
            <a:chExt cx="3429000" cy="2057400"/>
          </a:xfrm>
        </p:grpSpPr>
        <p:sp>
          <p:nvSpPr>
            <p:cNvPr id="174" name=""/>
            <p:cNvSpPr/>
            <p:nvPr/>
          </p:nvSpPr>
          <p:spPr>
            <a:xfrm>
              <a:off x="541008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816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85800" y="3962520"/>
            <a:ext cx="3429000" cy="2057400"/>
            <a:chOff x="685800" y="3962520"/>
            <a:chExt cx="3429000" cy="2057400"/>
          </a:xfrm>
        </p:grpSpPr>
        <p:sp>
          <p:nvSpPr>
            <p:cNvPr id="178" name=""/>
            <p:cNvSpPr/>
            <p:nvPr/>
          </p:nvSpPr>
          <p:spPr>
            <a:xfrm>
              <a:off x="114300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85800" y="304920"/>
            <a:ext cx="3429000" cy="2057400"/>
            <a:chOff x="685800" y="304920"/>
            <a:chExt cx="3429000" cy="2057400"/>
          </a:xfrm>
        </p:grpSpPr>
        <p:sp>
          <p:nvSpPr>
            <p:cNvPr id="183" name=""/>
            <p:cNvSpPr/>
            <p:nvPr/>
          </p:nvSpPr>
          <p:spPr>
            <a:xfrm>
              <a:off x="1143000" y="19810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146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5800" y="3049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952880" y="304920"/>
            <a:ext cx="3429000" cy="2057400"/>
            <a:chOff x="4952880" y="304920"/>
            <a:chExt cx="3429000" cy="2057400"/>
          </a:xfrm>
        </p:grpSpPr>
        <p:sp>
          <p:nvSpPr>
            <p:cNvPr id="187" name=""/>
            <p:cNvSpPr/>
            <p:nvPr/>
          </p:nvSpPr>
          <p:spPr>
            <a:xfrm>
              <a:off x="5410080" y="1981440"/>
              <a:ext cx="2514600" cy="38088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816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52880" y="304920"/>
              <a:ext cx="1600200" cy="1447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952880" y="3962520"/>
            <a:ext cx="3429000" cy="2057400"/>
            <a:chOff x="4952880" y="3962520"/>
            <a:chExt cx="3429000" cy="2057400"/>
          </a:xfrm>
        </p:grpSpPr>
        <p:sp>
          <p:nvSpPr>
            <p:cNvPr id="191" name=""/>
            <p:cNvSpPr/>
            <p:nvPr/>
          </p:nvSpPr>
          <p:spPr>
            <a:xfrm>
              <a:off x="541008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5288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85800" y="3962520"/>
            <a:ext cx="3429000" cy="2057400"/>
            <a:chOff x="685800" y="3962520"/>
            <a:chExt cx="3429000" cy="2057400"/>
          </a:xfrm>
        </p:grpSpPr>
        <p:sp>
          <p:nvSpPr>
            <p:cNvPr id="195" name=""/>
            <p:cNvSpPr/>
            <p:nvPr/>
          </p:nvSpPr>
          <p:spPr>
            <a:xfrm>
              <a:off x="1143000" y="5638680"/>
              <a:ext cx="2514600" cy="381240"/>
            </a:xfrm>
            <a:prstGeom prst="roundRect">
              <a:avLst>
                <a:gd name="adj" fmla="val 16667"/>
              </a:avLst>
            </a:prstGeom>
            <a:solidFill>
              <a:srgbClr val="a6bf73"/>
            </a:soli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IAO!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146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3962520"/>
              <a:ext cx="1600200" cy="1447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686800" y="6467400"/>
            <a:ext cx="380880" cy="304920"/>
          </a:xfrm>
          <a:prstGeom prst="ellipse">
            <a:avLst/>
          </a:prstGeom>
          <a:solidFill>
            <a:srgbClr val="a6bf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228600"/>
            <a:ext cx="236232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23623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2895480"/>
            <a:ext cx="2514600" cy="38124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228600"/>
            <a:ext cx="2361960" cy="1981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43000" y="3581280"/>
            <a:ext cx="236232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86400" y="571500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6248520"/>
            <a:ext cx="2514600" cy="380880"/>
          </a:xfrm>
          <a:prstGeom prst="roundRect">
            <a:avLst>
              <a:gd name="adj" fmla="val 16667"/>
            </a:avLst>
          </a:prstGeom>
          <a:solidFill>
            <a:srgbClr val="a6bf7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AO!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3581280"/>
            <a:ext cx="2361960" cy="198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02:29:52Z</dcterms:created>
  <dc:creator>Valeria</dc:creator>
  <dc:description/>
  <dc:language>en-US</dc:language>
  <cp:lastModifiedBy>Valeria</cp:lastModifiedBy>
  <dcterms:modified xsi:type="dcterms:W3CDTF">2006-10-01T02:47:20Z</dcterms:modified>
  <cp:revision>7</cp:revision>
  <dc:subject/>
  <dc:title>Slide 1</dc:title>
</cp:coreProperties>
</file>